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4D2-1E0B-40C2-9DF3-6D301CFF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281-1867-4C78-8302-A72ECDD1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2F5-3B22-4F0B-9167-A239E623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908-6E11-4C87-AA0B-03725166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1796-99BC-4813-AF00-C3DC985B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9AAC-0247-4F4C-A7D0-8C2CACDD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552A-0DA6-424A-8112-FE0DC46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43F-78F4-4969-A8F2-834A719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4BA8-5B16-4896-9406-89CCBC5F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5A4F-E7AD-4F44-B049-FD64E24A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7101-9ADC-41C1-908B-7AFA12D0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2D4-4D8C-4310-9EE8-979AF0F9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19A1-63EA-48AE-8B9B-727C106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7B4F-1301-4F19-84AD-8843B98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7282-ABA0-45E9-A570-9F78288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7DB9-0118-4CD8-A428-DBF0800D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E0B8-BB66-40CD-B1BE-6BFCC4DB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C6F-24C5-4A22-848F-539B47EB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480-14C6-4FB1-9FD8-420D6C9B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E41-9CBA-4C5C-91B3-B2F853D3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D53-794F-483B-B96B-729F89C3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1E7-7F44-4A48-A2EE-9E1EDC7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594-E00D-49FA-88D5-3BF7A50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17E-1274-4A8D-B217-B2E090E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3592-9C02-44CE-A222-13EBE0CDCD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E67-D726-4107-8F68-4D2055AB289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620640"/>
            <a:ext cx="84373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Этические основы отдельных видов юридической деятельност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отребовало появления применителей права -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юристов, т.е. слоя людей, который бы занимались управлением и обслуживанием населения на высоком профессиональном уровне. Термин "юрист" является производным от латинского "jus (juris)". Каждая историческая эпоха и каждая страна предъявляла свои деонтологическис требования к юристу, действующему в сфере юридической практики и имеющему определенные властные полномоч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412640"/>
            <a:ext cx="822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озникновение представлений о том, какой должна быть юридическая деятельность, относятся к временам Древнего Рима и связана с именами классиков юриспруден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ай, Ульпиан, Модестин, Павел, Папиниан. Они видели содержание юридической деятельности в трех ее составляющих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agere - руководить юридическими действиями сторон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cavere -составлять формулы документо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respondere - давать советы, консультации. Да и сам термин "юриспруденция" возник в Древнем Риме в конце IV-начале III века до н.э. (лат. jurisprudentia - знание права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еятельность ведущих юристов Древнего Рима оказала существенное влияние на последующие поколения юристов стран Западной Европы в плане формирования профессиональных качеств, навыков и установок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вые университеты, возникшие в XII-XIII в.в. в Болонье, Падуе, Кембридже, Саламанке, Париже, имели юридические факультеты, где готовились юристы в соответствии с объемом и содержанием правовых работ и услуг данного общества и стра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ломным моментом в становлении юридической профессии стал период развития буржуазных отношений и формирования юридического мировоззрения, которое стало классическим с конца XVIII века - после распространения по странам Европы идей Великой французской революции, которые нашли яркое выражение в Декларации прав человека и гражданина (Франция, 1789 г.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екларации прав Вирджинни (1776), Декларации независимости (1776), Конституции (1787) и  Билле о правах (1791) СШ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мпульс этому процессу дали революционные преобразования, происшедшие столетием ранее в Голландии, которые привели к возникновению теории естественного права (Г. Греции, Б. Спиноза), и особенно в Великобритании, где была развита эта теория (Т. Гоббс, Дж. Локк) и закреплены ее прогрессивные идеи о правах человека в таких документах, как Петиция о правах (1628), Habeas Corpus Act  (1679) и Билль о правах (1689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еонтологические требования предъявлялись к юристам-выпускникам университетов в дореволюционной России. На университеты распространялось действие университетских уставов 1863 и 1864 годов, в соответствии с которыми функционировало четыре факультета: юридический, физико-математический, историко-филологичсский, медицински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пускники юридического факультета, в основном, шли на службу в государственный аппарат по ведомству Министерства юстиции (судьи, прокуроры, следователи, нотариусы) и в юрисконсультские части казенных и коммерческих учреждений. Многие из них избирали "свободную" профессию адвока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26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о Франции и других посткапиталистических странах уделяют особое внимание деонтологии юридических профессий - издают правовые акты, проводят образовательную подготовку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екретом № 86592 введен "Кодекс деонтологии национальной полиции Франции"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Англии действует "Положение об этических принципах полицейской службы Великобритании»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ФРГ – «Этика полицейского ФРГ»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США - "Морально-этический кодекс полицейского США"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России утвержден "Кодекс чести рядового и начальствующего состава органов внутренних дел Российской Федерации"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На международном уровне имеется немало правовых документов, посвященных деонтологическому кодексу ряда юридических профессий. Примером может быть "Кодекс правил осуществления деятельности адвокатов Европейского сообщества", который принят делегацией двенадцати стран-участниц на заседании в Страсбурге в октябре 1988 года (Деонтологический кодекс)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равственные Кодексы юрис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профессиональной этики сотрудника органов внутренних дел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профессиональной этики адвокат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чести нотариуса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чести судь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этики прокурорского работник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этики и служебного поведения сотрудников государственных гражданских служащих уголовно-исполнительной систем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чести сотрудника Следственного комитет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этики и служебного поведения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539640" y="1305000"/>
            <a:ext cx="82803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Юридическая деятельность </a:t>
            </a:r>
            <a:r>
              <a:rPr b="1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характеризуется такими </a:t>
            </a:r>
            <a:r>
              <a:rPr b="1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аспектами</a:t>
            </a:r>
            <a:r>
              <a:rPr b="0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познавательным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коммуникативным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организаторски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воспитательным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удостоверительным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468360" y="579600"/>
            <a:ext cx="799128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Коммуникативный аспект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очень важен в деятельности юрист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Юрист должен обладать особыми психическими качествами, которые обеспечивали бы ему создание коммуникативных  связей, ограждали бы его от профессиональной деформац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Познавательный аспект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еятельности юриста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едполагает решение большого числа мыслительных задач, возникающих при раскрытии и расследования преступлений, и носит творческий, воссоздающий, исследовательский характе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Воспитательный аспект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юридической деятельности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заключается в воспитании граждан в духе уважения к зако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у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Удостоверительный аспект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существляется на основании норм, режимов, регулируется системой различных предписаний в виде правил внутреннего распорядка, служебных инструкций, наставлений, приказов</a:t>
            </a:r>
            <a:r>
              <a:rPr b="1" lang="ru-RU" sz="1800" spc="-1" strike="noStrike" u="sng">
                <a:solidFill>
                  <a:srgbClr val="eaeaea"/>
                </a:solidFill>
                <a:uFillTx/>
                <a:latin typeface="Arial"/>
              </a:rPr>
              <a:t>.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Юридическая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расль юридической науки и учебная дисциплина, которая представляет собой обобщенную систему  знаний о кодексе профессионального поведения юрис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рмин "деонтология" происходит от греческих слов "деон"- родительный падеж слова "нужное, должное" и "логос" - учение, т.е. исследование должного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рмин "деонтология" введен в научный оборот в 1834 году английским философом и юристом Иерсмия Бентамом при изложении нравственных установок, необходимых для карьеры и достижения личного материального благополучия. Он разработал модель науки о нормах профессионального поведения человека, имеющего власть, и изложил в книге "Деонтология, или Наука о морали"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476280"/>
            <a:ext cx="864216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Юридическая деятельность характеризуется  следующими чертами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трогой правовой регламентацие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)Экстремальным характером правоохранительн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) Наличием властных  полномоч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4) Нестандартным, творческим характером труда юрис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5)Процессуальной самостоятельностью, персональной ответственностью юристов, работающих в правоохранительных органах, государственно-правовых структур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ротиводействием со стороны заинтересованных лиц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7) Необходимостью соблюдения служебной тайны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8) Дефицитом времени и постоянными психологическими нагрузкам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9) Наличием отрицательных эмоций и посторонних раздражителей.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юридическая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в узком смысле)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- наука о применении общих норм морали в специфических условиях деятельности юристов-профессионалов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в широком смысле)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- наука, анализирующая, наряду с моральными, психологические, политические, профессиональные, этические, эстетические требования, которые регламентируют отношение специалиста к объекту труда - клиенту, а также к своим коллегам, и обеспечивают в целом режим наиболее оптимального и гарантированного поведения лиц в состоянии их взаимозависим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оведение юриста проявляется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культуре профессионального мышления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мении на научной основе организовать свой труд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астерстве общения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особности оценивать и переоценивать профессиональный опыт, анализировать собственные возможности и ошибк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нимать правильные решения (иначе: обладать мудростью принятия правильного решения!)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иентироваться в психологических и моральных особенностях клиент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здавать благоприятный для дела психологический климат в коллективе, эстетически оформлять документы и др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ецифика профессионального повед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условлена юридическим мышлением, уровнем квалификации, стилем руководства, особенностями юридической практики, компетентностью, периодической аттестацией, дисциплинарной ответственностью и др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на раскрывается в особых психологических, нравственных взаимоотношениях по формуле: юрист - клиент, юрист - коллеги, юрист - родственники клиен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офессиональное поведение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едполагает умение юрист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здать атмосферу достижения наиболее благоприятного результата в общении с коллегами и клиентами - гражданами, которые нуждаются в его профессионально - правовых услугах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евременно принять правильное (мудрое) решение по рассматриваемому делу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длежащим образом (в соответствии с правилами юридической техники) оформить принятое решение и добиться его выполн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Общая 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на включает основные аспекты характеристики должного, обязательного в повседневном поведении юриста при выполнении им своих служебных функций, а именно: юриста как личности (психологическая структура),  как политического деятеля (идейно-политическая сущность), как специалиста (профессиональное содержание), как носителя высоких моральных принципов (нравственная основа) и как обладателя устойчивых эстетических вкусов (эстетические элементы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ормативная 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основывает практические нравственные рекомендации, социальные нормы-требования (нормативные предписания)  к юристу любой профессии: о правилах поведения, нормах общения, тактике его взаимодействия как с коллегами, так и с клиентами, т.е. с теми, кому он предоставляет свои профессиональные услуг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пециальная 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свещающает  специфические деонтологические особенности конкретных юридических специальностей (адвоката, прокурора, следователя, нотариуса и др.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6:54:36Z</dcterms:created>
  <dc:creator>User</dc:creator>
  <dc:description/>
  <dc:language>en-US</dc:language>
  <cp:lastModifiedBy>User</cp:lastModifiedBy>
  <cp:lastPrinted>2015-05-12T08:20:51Z</cp:lastPrinted>
  <dcterms:modified xsi:type="dcterms:W3CDTF">2020-10-19T19:25:31Z</dcterms:modified>
  <cp:revision>10</cp:revision>
  <dc:subject/>
  <dc:title>Слайд 1</dc:title>
</cp:coreProperties>
</file>